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17A6-94F9-4E1A-B8B7-7AC3C1FC0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EFD7-5832-423E-B21D-9EE9425B3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19F4-9575-47D6-B0AC-D84817EF5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53F4-6EB2-4CBC-8BE2-D0F2C94AF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EB512-ACBD-420A-9D16-918587029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C945F-E565-4497-BE44-171C0D925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525D4-7C26-4AA9-A96D-7453A72BE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11786-5852-4008-8CD8-4D7741A19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7DEAB-B7C5-4AD7-9A39-06AE8194E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C0DEC-D287-4081-BC78-B6C6E6E58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12453-9A01-4003-8186-EB7824159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5DB8-9390-4084-9C77-91D3D1A50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06D5C-74F7-474C-B8A9-F75581364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12C75-7193-484D-A134-37BC99057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AEC28-B1DA-4B92-BF33-D8F5BF574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08259-A146-4744-BE7E-850298C59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A0747-2F8B-4563-A073-E56A4C0EC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FB93-766A-4769-849B-D92754B71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D864-104B-4ECC-94EE-8C9AE81CF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7C7F-2213-4753-A0FD-68D4389DD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2554-7A13-47BB-80BE-036709D10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3655-9217-48E9-9BF8-9E30876FB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CC43-6884-4214-B30F-175323C22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4001-1D2A-4642-A8BF-2F77D59AF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3B4DA-C711-4BB9-828E-C584DD4821C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2AE16-A554-42DD-BCE2-91E17F66B2B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5.2 The Structure of the Atom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98" name="Picture 4" descr="ANd9GcRTTudlic-3OM-we3HQIFmWs7FdA9sXEbSx6mBBPvHLgJD7SB9mWA"/>
          <p:cNvPicPr/>
          <p:nvPr/>
        </p:nvPicPr>
        <p:blipFill>
          <a:blip r:embed="rId1"/>
          <a:stretch/>
        </p:blipFill>
        <p:spPr>
          <a:xfrm>
            <a:off x="2133720" y="1828800"/>
            <a:ext cx="4952880" cy="41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"/>
          <p:cNvGraphicFramePr/>
          <p:nvPr/>
        </p:nvGraphicFramePr>
        <p:xfrm>
          <a:off x="685800" y="1523880"/>
          <a:ext cx="8229600" cy="3353040"/>
        </p:xfrm>
        <a:graphic>
          <a:graphicData uri="http://schemas.openxmlformats.org/drawingml/2006/table">
            <a:tbl>
              <a:tblPr/>
              <a:tblGrid>
                <a:gridCol w="1176480"/>
                <a:gridCol w="1174680"/>
                <a:gridCol w="1176120"/>
                <a:gridCol w="1175040"/>
                <a:gridCol w="1176120"/>
                <a:gridCol w="1174680"/>
                <a:gridCol w="1176480"/>
              </a:tblGrid>
              <a:tr h="103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ffffe1"/>
                          </a:solidFill>
                          <a:latin typeface="Arial"/>
                        </a:rPr>
                        <a:t>Standard Atomic Not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ffffe1"/>
                          </a:solidFill>
                          <a:latin typeface="Arial"/>
                        </a:rPr>
                        <a:t>Name of El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ffffe1"/>
                          </a:solidFill>
                          <a:latin typeface="Arial"/>
                        </a:rPr>
                        <a:t>Atomic Numb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ffffe1"/>
                          </a:solidFill>
                          <a:latin typeface="Arial"/>
                        </a:rPr>
                        <a:t>Mas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ffffe1"/>
                          </a:solidFill>
                          <a:latin typeface="Arial"/>
                        </a:rPr>
                        <a:t>Numb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ffffe1"/>
                          </a:solidFill>
                          <a:latin typeface="Arial"/>
                        </a:rPr>
                        <a:t>Number of Electr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ffffe1"/>
                          </a:solidFill>
                          <a:latin typeface="Arial"/>
                        </a:rPr>
                        <a:t>Number of Prot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ffffe1"/>
                          </a:solidFill>
                          <a:latin typeface="Arial"/>
                        </a:rPr>
                        <a:t>Number of Neutr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</a:tr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r>
                        <a:rPr b="0" lang="en-CA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e70000"/>
                          </a:solidFill>
                          <a:latin typeface="Arial"/>
                        </a:rPr>
                        <a:t>Carb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e7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e700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e7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e7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e7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r>
                        <a:rPr b="0" lang="en-CA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e70000"/>
                          </a:solidFill>
                          <a:latin typeface="Arial"/>
                        </a:rPr>
                        <a:t>zin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e70000"/>
                          </a:solidFill>
                          <a:latin typeface="Arial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e70000"/>
                          </a:solidFill>
                          <a:latin typeface="Arial"/>
                        </a:rPr>
                        <a:t>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e70000"/>
                          </a:solidFill>
                          <a:latin typeface="Arial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e70000"/>
                          </a:solidFill>
                          <a:latin typeface="Arial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e70000"/>
                          </a:solidFill>
                          <a:latin typeface="Arial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</a:tr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lf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lc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</a:tr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</a:tr>
            </a:tbl>
          </a:graphicData>
        </a:graphic>
      </p:graphicFrame>
      <p:pic>
        <p:nvPicPr>
          <p:cNvPr id="119" name="Picture 10" descr="notation"/>
          <p:cNvPicPr/>
          <p:nvPr/>
        </p:nvPicPr>
        <p:blipFill>
          <a:blip r:embed="rId1"/>
          <a:srcRect l="12070" t="17511" r="18971" b="12486"/>
          <a:stretch/>
        </p:blipFill>
        <p:spPr>
          <a:xfrm>
            <a:off x="7010280" y="5029200"/>
            <a:ext cx="1752840" cy="15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212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200" spc="-1" strike="noStrike">
                <a:solidFill>
                  <a:srgbClr val="330033"/>
                </a:solidFill>
                <a:latin typeface="Times New Roman"/>
              </a:rPr>
              <a:t>Bohr Rutherford Diagram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590040" y="1523520"/>
            <a:ext cx="82486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Show the quantities and locations of protons, electrons and neutrons in an atom (used for the 1</a:t>
            </a:r>
            <a:r>
              <a:rPr b="0" lang="en-CA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20 ele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tomic Number = # of prot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# of neutrons = Mass Number – Atomic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# of electrons = # of protons in a neutral at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For an atom of Heliu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tomic # = # of protons 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# of neutrons = Mass Number – Atomic Numb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= 4  -  2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# of electrons = # of protons 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200" spc="-1" strike="noStrike">
                <a:solidFill>
                  <a:srgbClr val="330033"/>
                </a:solidFill>
                <a:latin typeface="Times New Roman"/>
              </a:rPr>
              <a:t>Bohr-Rutherford Diagram for H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Arc 3"/>
          <p:cNvSpPr/>
          <p:nvPr/>
        </p:nvSpPr>
        <p:spPr>
          <a:xfrm rot="16200000">
            <a:off x="2392920" y="4750560"/>
            <a:ext cx="1571760" cy="2500200"/>
          </a:xfrm>
          <a:custGeom>
            <a:avLst/>
            <a:gdLst/>
            <a:ahLst/>
            <a:rect l="l" t="t" r="r" b="b"/>
            <a:pathLst>
              <a:path stroke="0" w="1571625" h="2500312">
                <a:moveTo>
                  <a:pt x="829827" y="1963"/>
                </a:moveTo>
                <a:cubicBezTo>
                  <a:pt x="1243697" y="38901"/>
                  <a:pt x="1568358" y="580930"/>
                  <a:pt x="1571601" y="1240374"/>
                </a:cubicBezTo>
                <a:cubicBezTo>
                  <a:pt x="1574788" y="1888366"/>
                  <a:pt x="1266216" y="2432818"/>
                  <a:pt x="860750" y="2494615"/>
                </a:cubicBezTo>
                <a:lnTo>
                  <a:pt x="785813" y="1250156"/>
                </a:lnTo>
                <a:lnTo>
                  <a:pt x="829827" y="1963"/>
                </a:lnTo>
                <a:close/>
              </a:path>
              <a:path fill="none" w="1571625" h="2500312">
                <a:moveTo>
                  <a:pt x="829827" y="1963"/>
                </a:moveTo>
                <a:cubicBezTo>
                  <a:pt x="1243697" y="38901"/>
                  <a:pt x="1568358" y="580930"/>
                  <a:pt x="1571601" y="1240374"/>
                </a:cubicBezTo>
                <a:cubicBezTo>
                  <a:pt x="1574788" y="1888366"/>
                  <a:pt x="1266216" y="2432818"/>
                  <a:pt x="860750" y="2494615"/>
                </a:cubicBezTo>
              </a:path>
            </a:pathLst>
          </a:custGeom>
          <a:noFill/>
          <a:ln w="9360">
            <a:solidFill>
              <a:srgbClr val="c9c99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4"/>
          <p:cNvSpPr/>
          <p:nvPr/>
        </p:nvSpPr>
        <p:spPr>
          <a:xfrm>
            <a:off x="2928960" y="5286240"/>
            <a:ext cx="1643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2p</a:t>
            </a:r>
            <a:r>
              <a:rPr b="0" lang="en-CA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2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traight Connector 6"/>
          <p:cNvSpPr/>
          <p:nvPr/>
        </p:nvSpPr>
        <p:spPr>
          <a:xfrm>
            <a:off x="2143080" y="4429080"/>
            <a:ext cx="1928880" cy="0"/>
          </a:xfrm>
          <a:prstGeom prst="line">
            <a:avLst/>
          </a:prstGeom>
          <a:ln w="93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7"/>
          <p:cNvSpPr/>
          <p:nvPr/>
        </p:nvSpPr>
        <p:spPr>
          <a:xfrm>
            <a:off x="2857680" y="385776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2e</a:t>
            </a:r>
            <a:r>
              <a:rPr b="0" lang="en-CA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eft Arrow 10"/>
          <p:cNvSpPr/>
          <p:nvPr/>
        </p:nvSpPr>
        <p:spPr>
          <a:xfrm>
            <a:off x="4419720" y="4114800"/>
            <a:ext cx="1495440" cy="285840"/>
          </a:xfrm>
          <a:prstGeom prst="leftArrow">
            <a:avLst>
              <a:gd name="adj1" fmla="val 50000"/>
              <a:gd name="adj2" fmla="val 49992"/>
            </a:avLst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eft Arrow 12"/>
          <p:cNvSpPr/>
          <p:nvPr/>
        </p:nvSpPr>
        <p:spPr>
          <a:xfrm>
            <a:off x="4419720" y="5638680"/>
            <a:ext cx="1547640" cy="214560"/>
          </a:xfrm>
          <a:prstGeom prst="leftArrow">
            <a:avLst>
              <a:gd name="adj1" fmla="val 50000"/>
              <a:gd name="adj2" fmla="val 49924"/>
            </a:avLst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14"/>
          <p:cNvSpPr/>
          <p:nvPr/>
        </p:nvSpPr>
        <p:spPr>
          <a:xfrm>
            <a:off x="6215040" y="3929040"/>
            <a:ext cx="2428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# of electrons in 1</a:t>
            </a:r>
            <a:r>
              <a:rPr b="0" lang="en-CA" sz="1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  orbital (energy leve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Max =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15"/>
          <p:cNvSpPr/>
          <p:nvPr/>
        </p:nvSpPr>
        <p:spPr>
          <a:xfrm>
            <a:off x="6367320" y="5354640"/>
            <a:ext cx="242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# of protons (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# of neutrons (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eft Brace 16"/>
          <p:cNvSpPr/>
          <p:nvPr/>
        </p:nvSpPr>
        <p:spPr>
          <a:xfrm>
            <a:off x="1571760" y="5143680"/>
            <a:ext cx="357120" cy="1500120"/>
          </a:xfrm>
          <a:custGeom>
            <a:avLst/>
            <a:gdLst>
              <a:gd name="textAreaLeft" fmla="*/ 228240 w 357120"/>
              <a:gd name="textAreaRight" fmla="*/ 357480 w 357120"/>
              <a:gd name="textAreaTop" fmla="*/ 9000 h 1500120"/>
              <a:gd name="textAreaBottom" fmla="*/ 1491120 h 1500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15"/>
                  <a:pt x="10800" y="429"/>
                </a:cubicBezTo>
                <a:lnTo>
                  <a:pt x="10800" y="10371"/>
                </a:lnTo>
                <a:cubicBezTo>
                  <a:pt x="10800" y="10586"/>
                  <a:pt x="5400" y="10800"/>
                  <a:pt x="0" y="10800"/>
                </a:cubicBezTo>
                <a:cubicBezTo>
                  <a:pt x="5400" y="10800"/>
                  <a:pt x="10800" y="11015"/>
                  <a:pt x="10800" y="11229"/>
                </a:cubicBezTo>
                <a:lnTo>
                  <a:pt x="10800" y="21171"/>
                </a:lnTo>
                <a:cubicBezTo>
                  <a:pt x="10800" y="2138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17"/>
          <p:cNvSpPr/>
          <p:nvPr/>
        </p:nvSpPr>
        <p:spPr>
          <a:xfrm>
            <a:off x="500040" y="5715000"/>
            <a:ext cx="13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Nucle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4"/>
          <p:cNvSpPr/>
          <p:nvPr/>
        </p:nvSpPr>
        <p:spPr>
          <a:xfrm>
            <a:off x="1905120" y="2895480"/>
            <a:ext cx="251460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5"/>
          <p:cNvSpPr/>
          <p:nvPr/>
        </p:nvSpPr>
        <p:spPr>
          <a:xfrm>
            <a:off x="2209680" y="312408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200" spc="-1" strike="noStrike">
                <a:solidFill>
                  <a:srgbClr val="330033"/>
                </a:solidFill>
                <a:latin typeface="Times New Roman"/>
              </a:rPr>
              <a:t>Bohr-Rutherford Diagram for K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" name="TextBox 3"/>
          <p:cNvSpPr/>
          <p:nvPr/>
        </p:nvSpPr>
        <p:spPr>
          <a:xfrm>
            <a:off x="2928960" y="5286240"/>
            <a:ext cx="1643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19p</a:t>
            </a:r>
            <a:r>
              <a:rPr b="0" lang="en-CA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20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traight Connector 4"/>
          <p:cNvSpPr/>
          <p:nvPr/>
        </p:nvSpPr>
        <p:spPr>
          <a:xfrm>
            <a:off x="2143080" y="4857840"/>
            <a:ext cx="1928880" cy="0"/>
          </a:xfrm>
          <a:prstGeom prst="line">
            <a:avLst/>
          </a:prstGeom>
          <a:ln w="93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5"/>
          <p:cNvSpPr/>
          <p:nvPr/>
        </p:nvSpPr>
        <p:spPr>
          <a:xfrm>
            <a:off x="2857680" y="428616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2e</a:t>
            </a:r>
            <a:r>
              <a:rPr b="0" lang="en-CA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traight Connector 6"/>
          <p:cNvSpPr/>
          <p:nvPr/>
        </p:nvSpPr>
        <p:spPr>
          <a:xfrm>
            <a:off x="2133720" y="4114800"/>
            <a:ext cx="1928520" cy="0"/>
          </a:xfrm>
          <a:prstGeom prst="line">
            <a:avLst/>
          </a:prstGeom>
          <a:ln w="93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7"/>
          <p:cNvSpPr/>
          <p:nvPr/>
        </p:nvSpPr>
        <p:spPr>
          <a:xfrm>
            <a:off x="2895480" y="3595680"/>
            <a:ext cx="7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8e</a:t>
            </a:r>
            <a:r>
              <a:rPr b="0" lang="en-CA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eft Arrow 8"/>
          <p:cNvSpPr/>
          <p:nvPr/>
        </p:nvSpPr>
        <p:spPr>
          <a:xfrm>
            <a:off x="4357800" y="4572000"/>
            <a:ext cx="1571400" cy="285840"/>
          </a:xfrm>
          <a:prstGeom prst="leftArrow">
            <a:avLst>
              <a:gd name="adj1" fmla="val 50000"/>
              <a:gd name="adj2" fmla="val 49986"/>
            </a:avLst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eft Arrow 9"/>
          <p:cNvSpPr/>
          <p:nvPr/>
        </p:nvSpPr>
        <p:spPr>
          <a:xfrm>
            <a:off x="4343400" y="3809880"/>
            <a:ext cx="1571760" cy="285840"/>
          </a:xfrm>
          <a:prstGeom prst="leftArrow">
            <a:avLst>
              <a:gd name="adj1" fmla="val 50000"/>
              <a:gd name="adj2" fmla="val 49998"/>
            </a:avLst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eft Arrow 10"/>
          <p:cNvSpPr/>
          <p:nvPr/>
        </p:nvSpPr>
        <p:spPr>
          <a:xfrm>
            <a:off x="4343400" y="5638680"/>
            <a:ext cx="1623960" cy="214560"/>
          </a:xfrm>
          <a:prstGeom prst="leftArrow">
            <a:avLst>
              <a:gd name="adj1" fmla="val 50000"/>
              <a:gd name="adj2" fmla="val 49933"/>
            </a:avLst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eft Brace 11"/>
          <p:cNvSpPr/>
          <p:nvPr/>
        </p:nvSpPr>
        <p:spPr>
          <a:xfrm>
            <a:off x="1571760" y="5143680"/>
            <a:ext cx="357120" cy="1500120"/>
          </a:xfrm>
          <a:custGeom>
            <a:avLst/>
            <a:gdLst>
              <a:gd name="textAreaLeft" fmla="*/ 228240 w 357120"/>
              <a:gd name="textAreaRight" fmla="*/ 357480 w 357120"/>
              <a:gd name="textAreaTop" fmla="*/ 9000 h 1500120"/>
              <a:gd name="textAreaBottom" fmla="*/ 1491120 h 1500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15"/>
                  <a:pt x="10800" y="429"/>
                </a:cubicBezTo>
                <a:lnTo>
                  <a:pt x="10800" y="10371"/>
                </a:lnTo>
                <a:cubicBezTo>
                  <a:pt x="10800" y="10586"/>
                  <a:pt x="5400" y="10800"/>
                  <a:pt x="0" y="10800"/>
                </a:cubicBezTo>
                <a:cubicBezTo>
                  <a:pt x="5400" y="10800"/>
                  <a:pt x="10800" y="11015"/>
                  <a:pt x="10800" y="11229"/>
                </a:cubicBezTo>
                <a:lnTo>
                  <a:pt x="10800" y="21171"/>
                </a:lnTo>
                <a:cubicBezTo>
                  <a:pt x="10800" y="2138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12"/>
          <p:cNvSpPr/>
          <p:nvPr/>
        </p:nvSpPr>
        <p:spPr>
          <a:xfrm>
            <a:off x="500040" y="5715000"/>
            <a:ext cx="13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Nucle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rc 13"/>
          <p:cNvSpPr/>
          <p:nvPr/>
        </p:nvSpPr>
        <p:spPr>
          <a:xfrm rot="16200000">
            <a:off x="2392920" y="4750560"/>
            <a:ext cx="1571760" cy="2500200"/>
          </a:xfrm>
          <a:custGeom>
            <a:avLst/>
            <a:gdLst/>
            <a:ahLst/>
            <a:rect l="l" t="t" r="r" b="b"/>
            <a:pathLst>
              <a:path stroke="0" w="1571625" h="2500312">
                <a:moveTo>
                  <a:pt x="829827" y="1963"/>
                </a:moveTo>
                <a:cubicBezTo>
                  <a:pt x="1243697" y="38901"/>
                  <a:pt x="1568358" y="580930"/>
                  <a:pt x="1571601" y="1240374"/>
                </a:cubicBezTo>
                <a:cubicBezTo>
                  <a:pt x="1574788" y="1888366"/>
                  <a:pt x="1266216" y="2432818"/>
                  <a:pt x="860750" y="2494615"/>
                </a:cubicBezTo>
                <a:lnTo>
                  <a:pt x="785813" y="1250156"/>
                </a:lnTo>
                <a:lnTo>
                  <a:pt x="829827" y="1963"/>
                </a:lnTo>
                <a:close/>
              </a:path>
              <a:path fill="none" w="1571625" h="2500312">
                <a:moveTo>
                  <a:pt x="829827" y="1963"/>
                </a:moveTo>
                <a:cubicBezTo>
                  <a:pt x="1243697" y="38901"/>
                  <a:pt x="1568358" y="580930"/>
                  <a:pt x="1571601" y="1240374"/>
                </a:cubicBezTo>
                <a:cubicBezTo>
                  <a:pt x="1574788" y="1888366"/>
                  <a:pt x="1266216" y="2432818"/>
                  <a:pt x="860750" y="2494615"/>
                </a:cubicBezTo>
              </a:path>
            </a:pathLst>
          </a:custGeom>
          <a:noFill/>
          <a:ln w="9360">
            <a:solidFill>
              <a:srgbClr val="c9c99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traight Connector 14"/>
          <p:cNvSpPr/>
          <p:nvPr/>
        </p:nvSpPr>
        <p:spPr>
          <a:xfrm>
            <a:off x="2133720" y="3429000"/>
            <a:ext cx="1928520" cy="0"/>
          </a:xfrm>
          <a:prstGeom prst="line">
            <a:avLst/>
          </a:prstGeom>
          <a:ln w="93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15"/>
          <p:cNvSpPr/>
          <p:nvPr/>
        </p:nvSpPr>
        <p:spPr>
          <a:xfrm>
            <a:off x="2857680" y="290988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8e</a:t>
            </a:r>
            <a:r>
              <a:rPr b="0" lang="en-CA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eft Arrow 16"/>
          <p:cNvSpPr/>
          <p:nvPr/>
        </p:nvSpPr>
        <p:spPr>
          <a:xfrm>
            <a:off x="4343400" y="3124080"/>
            <a:ext cx="1571760" cy="285840"/>
          </a:xfrm>
          <a:prstGeom prst="leftArrow">
            <a:avLst>
              <a:gd name="adj1" fmla="val 50000"/>
              <a:gd name="adj2" fmla="val 49998"/>
            </a:avLst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traight Connector 17"/>
          <p:cNvSpPr/>
          <p:nvPr/>
        </p:nvSpPr>
        <p:spPr>
          <a:xfrm>
            <a:off x="2133720" y="2819520"/>
            <a:ext cx="1928520" cy="0"/>
          </a:xfrm>
          <a:prstGeom prst="line">
            <a:avLst/>
          </a:prstGeom>
          <a:ln w="93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18"/>
          <p:cNvSpPr/>
          <p:nvPr/>
        </p:nvSpPr>
        <p:spPr>
          <a:xfrm>
            <a:off x="2857680" y="230040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1e</a:t>
            </a:r>
            <a:r>
              <a:rPr b="0" lang="en-CA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eft Arrow 19"/>
          <p:cNvSpPr/>
          <p:nvPr/>
        </p:nvSpPr>
        <p:spPr>
          <a:xfrm>
            <a:off x="4343400" y="2514600"/>
            <a:ext cx="1571760" cy="285840"/>
          </a:xfrm>
          <a:prstGeom prst="leftArrow">
            <a:avLst>
              <a:gd name="adj1" fmla="val 50000"/>
              <a:gd name="adj2" fmla="val 49998"/>
            </a:avLst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20"/>
          <p:cNvSpPr/>
          <p:nvPr/>
        </p:nvSpPr>
        <p:spPr>
          <a:xfrm>
            <a:off x="6095880" y="3778200"/>
            <a:ext cx="27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# of electrons in 2</a:t>
            </a:r>
            <a:r>
              <a:rPr b="0" lang="en-CA" sz="16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 orbital (energy level)   Max = 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21"/>
          <p:cNvSpPr/>
          <p:nvPr/>
        </p:nvSpPr>
        <p:spPr>
          <a:xfrm>
            <a:off x="6172200" y="4524480"/>
            <a:ext cx="2624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# of electrons in 1</a:t>
            </a:r>
            <a:r>
              <a:rPr b="0" lang="en-CA" sz="16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 orbital (energy level)   Max =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22"/>
          <p:cNvSpPr/>
          <p:nvPr/>
        </p:nvSpPr>
        <p:spPr>
          <a:xfrm>
            <a:off x="6286680" y="5497560"/>
            <a:ext cx="242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# of protons (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# of neutrons (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29"/>
          <p:cNvSpPr/>
          <p:nvPr/>
        </p:nvSpPr>
        <p:spPr>
          <a:xfrm>
            <a:off x="6095880" y="3048120"/>
            <a:ext cx="2819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# of electrons in 3</a:t>
            </a:r>
            <a:r>
              <a:rPr b="0" lang="en-CA" sz="16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 orbital (energy level)     Max = 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30"/>
          <p:cNvSpPr/>
          <p:nvPr/>
        </p:nvSpPr>
        <p:spPr>
          <a:xfrm>
            <a:off x="6095880" y="2286000"/>
            <a:ext cx="2590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# of electrons in 4</a:t>
            </a:r>
            <a:r>
              <a:rPr b="0" lang="en-CA" sz="1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 orbital (energy level)   Max = 8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26"/>
          <p:cNvSpPr/>
          <p:nvPr/>
        </p:nvSpPr>
        <p:spPr>
          <a:xfrm>
            <a:off x="1905120" y="1676520"/>
            <a:ext cx="2438280" cy="487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27"/>
          <p:cNvSpPr/>
          <p:nvPr/>
        </p:nvSpPr>
        <p:spPr>
          <a:xfrm>
            <a:off x="2438280" y="175248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ass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200" spc="-1" strike="noStrike">
                <a:solidFill>
                  <a:srgbClr val="330033"/>
                </a:solidFill>
                <a:latin typeface="Times New Roman"/>
              </a:rPr>
              <a:t>Isotop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atoms of an element have the same number of neu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few will have a different number of neu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. Most Li atoms have 3 protons and 4 neu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cccc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s Number =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have only 3 neutr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cccc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s Number =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oms that have the same number of protons but different numbers of neutrons are calle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otop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The Atom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4316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atom is made up of 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three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subatomic particl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100" spc="-1" strike="noStrike">
                <a:solidFill>
                  <a:srgbClr val="990033"/>
                </a:solidFill>
                <a:latin typeface="Arial"/>
              </a:rPr>
              <a:t>P</a:t>
            </a:r>
            <a:r>
              <a:rPr b="0" lang="en-CA" sz="3100" spc="-1" strike="noStrike">
                <a:solidFill>
                  <a:srgbClr val="000000"/>
                </a:solidFill>
                <a:latin typeface="Arial"/>
              </a:rPr>
              <a:t>rotons   (p</a:t>
            </a:r>
            <a:r>
              <a:rPr b="0" lang="en-CA" sz="31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CA" sz="31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100" spc="-1" strike="noStrike">
                <a:solidFill>
                  <a:srgbClr val="990033"/>
                </a:solidFill>
                <a:latin typeface="Arial"/>
              </a:rPr>
              <a:t>E</a:t>
            </a:r>
            <a:r>
              <a:rPr b="0" lang="en-CA" sz="3100" spc="-1" strike="noStrike">
                <a:solidFill>
                  <a:srgbClr val="000000"/>
                </a:solidFill>
                <a:latin typeface="Arial"/>
              </a:rPr>
              <a:t>lectrons (e</a:t>
            </a:r>
            <a:r>
              <a:rPr b="0" lang="en-CA" sz="31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CA" sz="31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100" spc="-1" strike="noStrike">
                <a:solidFill>
                  <a:srgbClr val="990033"/>
                </a:solidFill>
                <a:latin typeface="Arial"/>
              </a:rPr>
              <a:t>N</a:t>
            </a:r>
            <a:r>
              <a:rPr b="0" lang="en-CA" sz="3100" spc="-1" strike="noStrike">
                <a:solidFill>
                  <a:srgbClr val="000000"/>
                </a:solidFill>
                <a:latin typeface="Arial"/>
              </a:rPr>
              <a:t>eutrons (n</a:t>
            </a:r>
            <a:r>
              <a:rPr b="0" lang="en-CA" sz="31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CA" sz="31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7" descr="ANd9GcRTTudlic-3OM-we3HQIFmWs7FdA9sXEbSx6mBBPvHLgJD7SB9mWA"/>
          <p:cNvPicPr/>
          <p:nvPr/>
        </p:nvPicPr>
        <p:blipFill>
          <a:blip r:embed="rId1"/>
          <a:stretch/>
        </p:blipFill>
        <p:spPr>
          <a:xfrm>
            <a:off x="5334120" y="1676520"/>
            <a:ext cx="3290760" cy="305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875120" y="1599840"/>
            <a:ext cx="38116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protons and neutrons are found in the nucleus at the centre of the at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electrons are found “orbiting” around the nucleus in specific energy leve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914400" y="1600200"/>
            <a:ext cx="38098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0" descr="ANd9GcRTTudlic-3OM-we3HQIFmWs7FdA9sXEbSx6mBBPvHLgJD7SB9mWA"/>
          <p:cNvPicPr/>
          <p:nvPr/>
        </p:nvPicPr>
        <p:blipFill>
          <a:blip r:embed="rId1"/>
          <a:stretch/>
        </p:blipFill>
        <p:spPr>
          <a:xfrm>
            <a:off x="914400" y="1828800"/>
            <a:ext cx="3657600" cy="30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The Subatomic Particl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914400" y="1752480"/>
          <a:ext cx="7772400" cy="37339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933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800" spc="-1" strike="noStrike">
                          <a:solidFill>
                            <a:srgbClr val="000000"/>
                          </a:solidFill>
                          <a:latin typeface="Gungsuh"/>
                          <a:ea typeface="Times New Roman"/>
                        </a:rPr>
                        <a:t>Partic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800" spc="-1" strike="noStrike">
                          <a:solidFill>
                            <a:srgbClr val="000000"/>
                          </a:solidFill>
                          <a:latin typeface="Gungsuh"/>
                          <a:ea typeface="Times New Roman"/>
                        </a:rPr>
                        <a:t>Loc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800" spc="-1" strike="noStrike">
                          <a:solidFill>
                            <a:srgbClr val="000000"/>
                          </a:solidFill>
                          <a:latin typeface="Gungsuh"/>
                          <a:ea typeface="Times New Roman"/>
                        </a:rPr>
                        <a:t>Char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800" spc="-1" strike="noStrike">
                          <a:solidFill>
                            <a:srgbClr val="000000"/>
                          </a:solidFill>
                          <a:latin typeface="Gungsuh"/>
                          <a:ea typeface="Times New Roman"/>
                        </a:rPr>
                        <a:t>Ma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3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t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ucle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3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lectr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uter shell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3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eutr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ucle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533520" y="1523880"/>
            <a:ext cx="8237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omic number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200" spc="-1" strike="noStrike" u="sng">
                <a:solidFill>
                  <a:srgbClr val="990033"/>
                </a:solidFill>
                <a:uFillTx/>
                <a:latin typeface="Arial"/>
              </a:rPr>
              <a:t>number of proton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n the nucleus of an ato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atomic number identifies the atom as a particular el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ss Numb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number of </a:t>
            </a:r>
            <a:r>
              <a:rPr b="1" lang="en-US" sz="2200" spc="-1" strike="noStrike" u="sng">
                <a:solidFill>
                  <a:srgbClr val="990033"/>
                </a:solidFill>
                <a:uFillTx/>
                <a:latin typeface="Arial"/>
              </a:rPr>
              <a:t>protons and neutron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n an atom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20" descr="2-He-4-labeled"/>
          <p:cNvPicPr/>
          <p:nvPr/>
        </p:nvPicPr>
        <p:blipFill>
          <a:blip r:embed="rId1"/>
          <a:stretch/>
        </p:blipFill>
        <p:spPr>
          <a:xfrm>
            <a:off x="4191120" y="3276720"/>
            <a:ext cx="4267080" cy="117468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11"/>
          <p:cNvSpPr/>
          <p:nvPr/>
        </p:nvSpPr>
        <p:spPr>
          <a:xfrm>
            <a:off x="9144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990033"/>
                </a:solidFill>
                <a:latin typeface="Arial"/>
              </a:rPr>
              <a:t>Standard Atomic Notation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10" descr="notation"/>
          <p:cNvPicPr/>
          <p:nvPr/>
        </p:nvPicPr>
        <p:blipFill>
          <a:blip r:embed="rId1"/>
          <a:srcRect l="12070" t="17511" r="18971" b="12486"/>
          <a:stretch/>
        </p:blipFill>
        <p:spPr>
          <a:xfrm>
            <a:off x="4648320" y="1905120"/>
            <a:ext cx="4267080" cy="3840120"/>
          </a:xfrm>
          <a:prstGeom prst="rect">
            <a:avLst/>
          </a:prstGeom>
          <a:ln w="0">
            <a:noFill/>
          </a:ln>
        </p:spPr>
      </p:pic>
      <p:sp>
        <p:nvSpPr>
          <p:cNvPr id="111" name="TextBox 1"/>
          <p:cNvSpPr/>
          <p:nvPr/>
        </p:nvSpPr>
        <p:spPr>
          <a:xfrm>
            <a:off x="833400" y="1752480"/>
            <a:ext cx="3586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Uses a standard symbol to represent the element (ex. H for hydrogen, Li for lith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The Atom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447560"/>
            <a:ext cx="80074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culating the Number of Subatom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ic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omic numb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= number of prot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ss numb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= number of protons + number of neutr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ber of neutr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mass number – atomic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ber of proton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 number of electr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neutral ato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Activity 5-4, p. 189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8080" y="16412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 the activity and complete #1-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E: for number 3, do not use Appendix A, instead use the periodic table on p. 197,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ss numb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number under the symbol, rounded. Ex. zinc 65.4 = 6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200" spc="-1" strike="noStrike">
                <a:solidFill>
                  <a:srgbClr val="330033"/>
                </a:solidFill>
                <a:latin typeface="Times New Roman"/>
              </a:rPr>
              <a:t>Answers to Activity 5-4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7280" indent="-287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1.  carbon = C, hydrogen = H, nitrogen = 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Rule: use the first letter (capital) of each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2. a. Calcium = Ca, use the first two letters, first letter only capitaliz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b. C cannot be used as it is already used for carb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3. silver (</a:t>
            </a:r>
            <a:r>
              <a:rPr b="0" i="1" lang="en-CA" sz="2000" spc="-1" strike="noStrike">
                <a:solidFill>
                  <a:srgbClr val="000000"/>
                </a:solidFill>
                <a:latin typeface="Arial"/>
              </a:rPr>
              <a:t>argentum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) = Ag, gold (</a:t>
            </a:r>
            <a:r>
              <a:rPr b="0" i="1" lang="en-CA" sz="2000" spc="-1" strike="noStrike">
                <a:solidFill>
                  <a:srgbClr val="000000"/>
                </a:solidFill>
                <a:latin typeface="Arial"/>
              </a:rPr>
              <a:t>aurum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) = Au, copper (</a:t>
            </a:r>
            <a:r>
              <a:rPr b="0" i="1" lang="en-CA" sz="2000" spc="-1" strike="noStrike">
                <a:solidFill>
                  <a:srgbClr val="000000"/>
                </a:solidFill>
                <a:latin typeface="Arial"/>
              </a:rPr>
              <a:t>cuprum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) = Cu, iron (</a:t>
            </a:r>
            <a:r>
              <a:rPr b="0" i="1" lang="en-CA" sz="2000" spc="-1" strike="noStrike">
                <a:solidFill>
                  <a:srgbClr val="000000"/>
                </a:solidFill>
                <a:latin typeface="Arial"/>
              </a:rPr>
              <a:t>ferrum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) = Fe, mercury (</a:t>
            </a:r>
            <a:r>
              <a:rPr b="0" i="1" lang="en-CA" sz="2000" spc="-1" strike="noStrike">
                <a:solidFill>
                  <a:srgbClr val="000000"/>
                </a:solidFill>
                <a:latin typeface="Arial"/>
              </a:rPr>
              <a:t>hydrargyrum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) = Hg, lead (</a:t>
            </a:r>
            <a:r>
              <a:rPr b="0" i="1" lang="en-CA" sz="2000" spc="-1" strike="noStrike">
                <a:solidFill>
                  <a:srgbClr val="000000"/>
                </a:solidFill>
                <a:latin typeface="Arial"/>
              </a:rPr>
              <a:t>plumbum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) = Pb, tin (</a:t>
            </a:r>
            <a:r>
              <a:rPr b="0" i="1" lang="en-CA" sz="2000" spc="-1" strike="noStrike">
                <a:solidFill>
                  <a:srgbClr val="000000"/>
                </a:solidFill>
                <a:latin typeface="Arial"/>
              </a:rPr>
              <a:t>stannum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) = S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Identify rules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4. Next slide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6T18:16:38Z</dcterms:created>
  <dc:creator>OCDSB User</dc:creator>
  <dc:description/>
  <dc:language>en-US</dc:language>
  <cp:lastModifiedBy>Katie</cp:lastModifiedBy>
  <dcterms:modified xsi:type="dcterms:W3CDTF">2014-10-01T19:37:27Z</dcterms:modified>
  <cp:revision>76</cp:revision>
  <dc:subject/>
  <dc:title>Atomic Theories and Subatomic Particles</dc:title>
</cp:coreProperties>
</file>